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6A4C-C557-42AA-918D-F125D2679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40C3-7129-4BBA-9566-2980BAD3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C6C0-740A-4E93-A377-61CBF9084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2913-AB3F-498D-A96B-7BFF35671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6312-3C95-4683-9323-2C32527E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2353-1E86-41E6-A774-382340D7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1C3B-0561-496F-B64C-15C7B436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F685-704B-4AF9-8729-ADA4B1A7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1DC2-F9E3-4B92-B506-A73ABA62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C40F-70BE-4A9B-8095-E7E767DB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AEAD-A6A7-4E46-B7E9-51663EFC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0CD1-AAC7-4781-9485-422179FC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B3A1-EA96-4471-93E1-8B669B4AAA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3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3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3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3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1280" y="1371600"/>
            <a:ext cx="597960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R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pproxim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o RR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ffe701"/>
                </a:solidFill>
                <a:latin typeface="Arial"/>
              </a:rPr>
              <a:t>(Cohort Stud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3276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14400" y="3809880"/>
            <a:ext cx="7315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086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7696440" cy="2819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38080" y="838080"/>
            <a:ext cx="76964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4953240" cy="854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295280" y="2362320"/>
            <a:ext cx="64008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696080" cy="1828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" y="2743200"/>
            <a:ext cx="76960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84836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7010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5943600" cy="1067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708660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295280" y="3048120"/>
            <a:ext cx="59436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08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7086600" cy="1143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85800" y="3124080"/>
            <a:ext cx="7086600" cy="2514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48120" y="2590920"/>
            <a:ext cx="155412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(f = 1.3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086600" cy="1067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7086600" cy="1143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62120" y="3048120"/>
            <a:ext cx="7086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6095880" cy="762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7086600" cy="1143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838080" y="3276720"/>
            <a:ext cx="7086600" cy="1828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048120" y="2743200"/>
            <a:ext cx="155412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(f = 1.1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086600" cy="990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7086600" cy="1143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362320" y="3429000"/>
            <a:ext cx="3504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4647960" cy="685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62120" y="1219320"/>
            <a:ext cx="7086600" cy="1295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838080" y="3048120"/>
            <a:ext cx="7010640" cy="1523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410080" y="2514600"/>
            <a:ext cx="243864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(f = 1.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3352680"/>
            <a:ext cx="1526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81440" y="3703680"/>
            <a:ext cx="309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hereas RR is 2.1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086600" cy="1524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7086600" cy="1143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62120" y="3505320"/>
            <a:ext cx="7086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562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934320" y="5715000"/>
            <a:ext cx="15238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086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7238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238880" cy="4724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72388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70866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19:44Z</dcterms:modified>
  <cp:revision>214</cp:revision>
  <dc:subject/>
  <dc:title>Slide 1</dc:title>
</cp:coreProperties>
</file>